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18A5-B976-4337-A226-96E9CF37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277-62BE-4EA8-B87F-AA007C81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608A-84EF-490D-99F8-5BFF2D11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C5B-A5D0-4C4A-A67F-4EAB89A4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AF98-8342-44F0-BDB2-79C2669C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9D2-7F97-421D-A7D5-67B5D997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421-BA85-448D-975B-EDA03205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E3F-709F-4BD2-8A50-6B65875C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DBF-5D03-499C-BE51-8BC7C939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153F-160E-42EC-98B6-296B3F04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9901-2341-4663-B3F7-EA2160DD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11CB-85B1-4F76-A1C3-1F287C19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48E6-D22D-4E50-AB71-B2411EA43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Clase 6nh (602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3 de may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Arial"/>
              </a:rPr>
              <a:t>Propósito # 67: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Cómo repasamos para el examen del Capitulo 2 del JUEVE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Vas al medico cuando tienes catarr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Vas al medico cuando tienes la grip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Quién es el medico de tu famili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Dónde esta su consultori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Si te da una receta, ¿A dónde va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  WORKBOOK: Completa p.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- Identi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7086600" y="3809880"/>
            <a:ext cx="17226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6781680" y="609480"/>
            <a:ext cx="2124360" cy="1560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3200400" y="1600200"/>
            <a:ext cx="2160720" cy="2581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4"/>
          <a:stretch/>
        </p:blipFill>
        <p:spPr>
          <a:xfrm>
            <a:off x="152280" y="3733920"/>
            <a:ext cx="2590920" cy="25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Pictures 026"/>
          <p:cNvPicPr/>
          <p:nvPr/>
        </p:nvPicPr>
        <p:blipFill>
          <a:blip r:embed="rId5"/>
          <a:stretch/>
        </p:blipFill>
        <p:spPr>
          <a:xfrm>
            <a:off x="3048120" y="4419720"/>
            <a:ext cx="1811160" cy="18842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228600" y="213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r t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28600" y="27432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ne __________ y 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0" y="5943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ipe tiene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4800600" y="4876920"/>
            <a:ext cx="2590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os tiene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6705720" y="22096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a esta 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7010280" y="58831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on esta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z 4/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tribuida en cl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5:11:36Z</dcterms:created>
  <dc:creator>Helen Zumaeta</dc:creator>
  <dc:description/>
  <dc:language>en-US</dc:language>
  <cp:lastModifiedBy>Helen Zumaeta</cp:lastModifiedBy>
  <cp:lastPrinted>2013-05-22T19:09:30Z</cp:lastPrinted>
  <dcterms:modified xsi:type="dcterms:W3CDTF">2013-05-28T20:48:52Z</dcterms:modified>
  <cp:revision>11</cp:revision>
  <dc:subject/>
  <dc:title>Slide 1</dc:title>
</cp:coreProperties>
</file>